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EE6-523A-46EB-947F-1C4F5EAF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787-F9EB-41E7-A363-5FD2DB9F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BC9-80A8-4F73-BE7A-EC62CC1A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F6E-8F13-45A5-8D3A-0CF28BA8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725E-471A-4415-8691-9789E760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7195-1160-4C36-BB14-90FF7697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20F-B4F0-450C-9F66-24E6A681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562D-723A-403C-B14E-E3AF46A7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AD77-E2B0-4137-B4A6-1E6B5B3E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42AF-EAA1-492C-AE85-0D47420A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EE2D-80DB-4CFA-9F4B-58C555FD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8B6-DADF-4F0F-85F9-54898E51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83E2-B7C7-49CC-AE93-5CAA826F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01FE-347B-4D80-BBE5-7DD0FB7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A4A7-01DE-4DEC-8508-814B3808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E329-35E9-4E3E-A7A3-E3AAF0F1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67BE-9BA4-4CA8-8ABA-BCF20085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F00-5099-4F90-B377-67FF251E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C72-AAF5-42BB-BA77-0C1F20C2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7A7-223E-4791-9B44-0B0771DF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032-E5D9-4E01-A95C-064D1569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BA7-0C11-4A28-B8F8-FE2F4170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E47-95B7-46DF-8762-4660462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060-848A-492E-84D1-73CE725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C32-6219-4220-AD47-452D89C1A3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C39-07DD-4C7F-9A1C-A15D08A88F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447920"/>
            <a:ext cx="84582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ffcc"/>
                </a:solidFill>
                <a:latin typeface="Times New Roman"/>
              </a:rPr>
              <a:t>Пётр </a:t>
            </a:r>
            <a:r>
              <a:rPr b="0" lang="en-US" sz="7500" spc="-1" strike="noStrike">
                <a:solidFill>
                  <a:srgbClr val="ffffcc"/>
                </a:solidFill>
                <a:latin typeface="Times New Roman"/>
              </a:rPr>
              <a:t>I </a:t>
            </a:r>
            <a:r>
              <a:rPr b="0" lang="ru-RU" sz="7500" spc="-1" strike="noStrike">
                <a:solidFill>
                  <a:srgbClr val="ffffcc"/>
                </a:solidFill>
                <a:latin typeface="Times New Roman"/>
              </a:rPr>
              <a:t>– основатель 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ffcc"/>
                </a:solidFill>
                <a:latin typeface="Times New Roman"/>
              </a:rPr>
              <a:t>Бикатунского острога.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Monotype Corsiva"/>
              </a:rPr>
              <a:t>Значение образования город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066680"/>
            <a:ext cx="6705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снованный в 1709-м году как крепость, входившая в Бийско-Кузнецкую казачью линию, он в 1756-м году сыграл важную роль в процессе добровольного вхождения алтайцев в состав России. В 1782-м году Бийску присвоен статус города, который вскоре получил свой герб с бегущим серебряным конем на зеленом верхнем поле и золотой горой, пронизанной шахтой, - на голубом нижнем поле.  Город Бийск в исторически короткий срок занял довольно важное место сначала в охране рубежей Российской империи в качестве мощного, по тем временам, фортификационного сооружения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степенно, с изменением политической обстановки, город приобретает статус купеческой столицы региона, где сконцентрировалась основная база российско-монгольской и российско-китайской торговли. Бийские купцы смогли наладить тесные, добропорядочные отношения с народами азиатских государств. Практически на свои средства они отстроили наш город. Создали то, что мы в настоящее время называем историческим лицом города или бийским "Арбатом".  Город впечатляет своим размахом и основательностью. Здесь оставили частицу своей души видные ученые, путешественники, общественные деятели, члены императорской фамил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советское время Бийск играл видную роль в жизни края, как крупнейший промышленный центр. Но всегда символом всей жизни, всех событий является их начало. Началом в истории нашего города был Бикатунский остро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2952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2952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Герб г. Бийска"/>
          <p:cNvPicPr/>
          <p:nvPr/>
        </p:nvPicPr>
        <p:blipFill>
          <a:blip r:embed="rId1"/>
          <a:stretch/>
        </p:blipFill>
        <p:spPr>
          <a:xfrm>
            <a:off x="0" y="1143000"/>
            <a:ext cx="2286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города в петровское врем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648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Бийске начали строиться предприятия по переработке местного сырья: кожевенный, винокуренный и лесопильный заводы, махорочная и льноткацкая фабрики, паровая мельница, холодильник и ряд кирпичных заводов, а также полукустарные мастерские по металлообработ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267080" cy="31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коном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39621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личительная особенность финансово-экономического развития в предреволюционное десятилетие — высокая концентрация банковского капитала. Наряду с местными кредитными учреждениями, в Бийске успешно действовали отделения таких крупных банков, как Сибирский торговый, Русско-Азиатский и Петроградский международный коммерческий бан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7 декабря 1917 года в Бийске была установлена власть Советов. Однако 19 июня 1918 года город перешёл под контроль войск А. В. Колчака, и Советская власть была восстановлена только 9 декабря 1919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95288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Фотографии старого город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спенский соб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д города с Успенского соб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772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оицкий соб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72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д города с Троицкого соб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72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арнаульская ул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726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иколаевская женская гимназ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003320"/>
            <a:ext cx="85341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ся с культурой и историей родного го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следовать историю образования города Бий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ить какое значение имело образование города для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ся самостоятельно работать с дополнительной литерату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хиерейский д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119240"/>
            <a:ext cx="843264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орговый дом купца Игнатье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1280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ольничный взвоз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ушкинское городское училищ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ийская приста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города в наши дни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ийск является важным транспортным узлом. На реке Бия расположен речной порт, обеспечивающий доставку грузов в северо-западном направлении, включая выход в Северный Ледовитый океан. Из города проложено множество автомобильных дорог, в том числе соединяющий Россию с Монголией Чуйский тракт, проектированием которого перед Первой Мировой войной занимался В. Я. Шишков. С 1915 года Бийск был соединен с Транссибирской магистралью. Планируется связать Бийск с Горно-Алтайском железной дорог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городе имеется аэропорт, принимающий воздушные суда третьего класса (Ан-24, Як-40, вертолеты). Авиакомпании в Бийском аэропорту не базируются. Рейсы Сургут — Бийск выполняет авиакомпания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Air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города в наши дн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ийск - ворота Горного Алтая, крайняя точка в России, с которой начинаются все горные туристические маршруты (в городе находится единственный мост через реку Бия). Через Бийск ежегодно проезжает более 2 млн. туристов. Отсюда идут дороги на всемирно известные Телецкое озеро, гору Белуху, курорты Чемал и Белокуриха, плато Уко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6324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гни над Бие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715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О тебе леген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немало сложено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ревня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лтайская ре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ы сегодн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делалась молож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 голубых нарядны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огонька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Яркими созвездья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расцвеченн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Он во весь св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богатырский рос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стал над Би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навсегд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навеч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Человеком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ыстроенный мос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М. Длуговской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4572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Фотографии современного город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89532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Здание администрации города Бийс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лан работы: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Посетить Бийский краеведческий музей им. В.В.Бианки (бывший особняк купца Н.И. Ассанов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Совершить экскурсию по улицам старого гор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осетить городскую библиотеку им. В.М.Шукшина, школьную библиотеку, библиотеку при краеведческом музее, Центральную детскую библиоте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Воспользоваться информацией из Интерн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Обратиться за консультацией к учителю исто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Обобщить полученные результа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. Оформить исследования в виде реферата и                                                                                                                           презент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нтральная гостинниц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90720" y="110484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бербанк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1403280"/>
            <a:ext cx="87534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ородской Дворец куль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нотеатр «Алтай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10288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рамматический теат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арк «50 – летия Победы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ород по берегам Б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ереулок Коммунарск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108576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ийск город родной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ой город в сиянье вечерних огней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Что русскому сердцу быть может милей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Широкие улицы, тихий бульвар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н также как Петр и молод и стар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 нем горы и долы, и чистый родник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н к Бие как к маме на руки приник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 рядом тайга вековая стоит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стинно русский порядок хранит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аводы как скалы, а люди кремень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ни приближали сегодняшний день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усть армия нами гордится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 враг, как огня, нас боится. 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ой город науки и светлых идей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Полный красивых и умных людей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Здесь крепкая смена родится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Готовых  за истину биться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Город радушно встречает гостей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И превращает их в лучших друзей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Где кладезь здоровья хранится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Всегда по особому спится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Бийск, Бийск город родной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Солнце встало стеной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Как я верю в тебя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Сердцем крепко люб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7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проекта: Кайгородов Илья – ученик 7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оводитель проекта: Поклонова В.И –        учитель ист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80880"/>
            <a:ext cx="784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ОУ «Первомайская средняя общеобразовательная школа № 2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ий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лтайского кр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Стихотворение «Привет из Бийс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Указ Петр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Общие све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Географическое расположение Значение образования гор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Значение образования гор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Развитие города в петровское врем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Эконом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Фотографии старого гор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Развитие города в наши д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Стихотворение «Огни над Би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 Фотографии современного гор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. Стихотворение «Бийск город родно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970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аврюшкин Александр Евгеньевич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етр Первый наш когда-то,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екратить разбой реши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 тысяча семьсот девя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ийск Указом создан бы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ийск, как крепость жил вначал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злихие каза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Лихо на конях скакал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Лишь сверкали их клинки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 сегодня конь казачи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а гербе на Бийском е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тережёт он, не инач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орода Сибири честь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исокосный год уходит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том будет юбилей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риста лет не много вроде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ля Сибири для мое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 этот день я знаю, люди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ыйдут на берег ре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 гулять там шумно буду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олодёжь и стар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ия, ласковой волною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ийску будет говори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о любовь свою, не скрою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ород есть за что любить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97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4057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0" y="380520"/>
            <a:ext cx="3657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Monotype Corsiva"/>
              </a:rPr>
              <a:t>Указ Петра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Monotype Corsiva"/>
              </a:rPr>
              <a:t>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1784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1371600"/>
            <a:ext cx="43434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«…на реках Бие и Катуни в пристойном месте для сбору нашего великого государя ясашной казны и к селению пашенных крестьян построить острог со всякими крепостями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щие свед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91120" y="9144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ыстрое исполнение данного указа диктовалось не только строгостью Петра I, но и контролем со стороны сибирского воеводы князя М. Г. Гагарина. В марте указ был послан в Сибирь. Надо полагать, что летом того же года в стрелке между Бией и Катунью было начато строительство острога, чтобы к зиме бревенчатое сооружение было готово. Ведь, служилым людям необходимо было зимовать на новом месте. Начало же Бикатунской крепости, как ее именуют в письменных источниках, принято считать 18 июня 1709 года. В фондах Бийского краеведческого музея хранится первый список поселенцев крепости, в нем записана эта дата. Известно, что построенный острожек просуществовал короткое время. Подданные джунгарского хана Цэван-Рабдана после жарких боев в 1709 году разрушили ег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343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щие сведе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724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стория Бийска - это история острога, крепости, купеческого города. Бийск- старейший из алтайских городов, построен по указу Петра I почти 300 лет назад. В начале XVII в. самыми южными русскими укрепленными пунктами в Западной Сибири были крепость Томска и Кузнецкий острог. Южнее них лежал неизвестный Алтай, обозначенный на картах того времени как "Телеутская землица", по названию алтайского племени телеутов. Русские границы были подвержены нападениям со стороны телеутских князей и воинов Джунгарского ханства и нуждались в укреплен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51814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ушки Бийской креп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1127160"/>
            <a:ext cx="449604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Географическое располо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11430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838080"/>
            <a:ext cx="44956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ийск расположен в юго-восточной части Алтайского края на реке Бия, недалеко от её слияния с рекой Катунь. Город находится на юго-западном склоне Бийско-Чумышской возвышенности. Он лежит в основном на узкой луговой правой террасе Бии и круто поднимающемся склоне нагорного лёссового плато. Часть города расположена на левом низменном берегу, примыкая к сосновым борам. Правобережная и левобережная части Бийска</a:t>
            </a:r>
            <a:r>
              <a:rPr b="0" lang="ru-RU" sz="1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единены мостом. Бийск является начальным пунктом Чуйского автомобильного тракта, идущего через Алтай к границе с Монгол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9-01-27T08:43:0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